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48C4-6A2C-40D9-97DF-D7378BDDF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3B56-61A9-4310-B4DE-8C36D5CA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7AF7-DD2D-41E8-85EC-C341CE284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28B2-9A1B-4E2B-BD44-49BDA1DC4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2C45-EFEF-4EF6-883C-86F9C688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8209-A548-4FF1-9E0A-E0E5BA26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3FA2-3183-4599-9C17-6C2EFB17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A6CA-A30A-40FE-8171-EEBADE6D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E0F0-DC81-4565-BA1C-035BF6EE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13DE-5AC6-4BAB-B3EC-C89BF451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D237-5BAC-40B4-A916-0EE6B4C8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083F-2834-4A3E-954F-FF0827DC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F541-932E-4EE6-8BC2-F6583B91D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hyperlink" Target="file:///../../../Program%20Files/Vocal%20Innovations/Voiceprint/vp.exe" TargetMode="Externa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sthma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3886200"/>
            <a:ext cx="830592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ent recurrent exacerbations of asthma and minimize the need for ED visits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pitaliz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ent progressive loss of lung function; for children, prevent reduced lung grow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optimal pharmacotherapy with minimal or no adverse eff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3520" y="2209680"/>
            <a:ext cx="8076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reduce the number of ED visits for children with asthma by integrating commonly available inexpensive technologies”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00400" y="1295280"/>
            <a:ext cx="2971800" cy="2146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1257120" cy="933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696080" y="1752480"/>
            <a:ext cx="809640" cy="1133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133720" y="2438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62940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429000" y="3657600"/>
            <a:ext cx="2819520" cy="2658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7524720" y="3733920"/>
            <a:ext cx="1619280" cy="2057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686800" y="31240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6400800" y="4648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228600" y="4038480"/>
            <a:ext cx="2057400" cy="1538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flipH="1">
            <a:off x="259092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4495680" y="5562720"/>
            <a:ext cx="930240" cy="1295280"/>
          </a:xfrm>
          <a:prstGeom prst="rect">
            <a:avLst/>
          </a:prstGeom>
          <a:ln w="0">
            <a:noFill/>
          </a:ln>
        </p:spPr>
      </p:pic>
      <p:sp>
        <p:nvSpPr>
          <p:cNvPr id="57" name="">
            <a:hlinkClick r:id="rId8"/>
          </p:cNvPr>
          <p:cNvSpPr/>
          <p:nvPr/>
        </p:nvSpPr>
        <p:spPr>
          <a:xfrm>
            <a:off x="1752480" y="2286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ing Wheez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05120" y="0"/>
            <a:ext cx="220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Johny Hub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343400" y="63244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05120" y="609480"/>
            <a:ext cx="259056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ge: 5 years 1 mon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ex: M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Height: 72 cm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eight: 96 l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457200"/>
            <a:ext cx="3809880" cy="13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ateg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Severity:  Persistent Sev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Control: Poor Contr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2057400"/>
            <a:ext cx="2895480" cy="17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V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2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0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/ FV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–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%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80988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Date: 08/02/07                 Time: 11:00 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2514600"/>
            <a:ext cx="243864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 / 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 of N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95680" y="380988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Date: 12/03/07                 Time: 3:00 p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51814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ak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617220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Date: 09/15/07                 Time: 2:00 p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51055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s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617220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Date: 12/04/07                 Time: 8:00 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7696080" y="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04:40:38Z</dcterms:created>
  <dc:creator>Jiten Chhabra </dc:creator>
  <dc:description/>
  <dc:language>en-US</dc:language>
  <cp:lastModifiedBy>Jiten Chhabra </cp:lastModifiedBy>
  <dcterms:modified xsi:type="dcterms:W3CDTF">2007-12-12T04:40:44Z</dcterms:modified>
  <cp:revision>1</cp:revision>
  <dc:subject/>
  <dc:title>Asthma Control</dc:title>
</cp:coreProperties>
</file>